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4AAB-7E22-469E-9BC6-EBFCCF80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D74B-3673-4243-AC7C-523B0525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7BC-503F-4977-B649-6A558BFE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CA03-E596-4515-8184-B5DBCC39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ED29-042C-4969-BE1C-E2E14B67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04B8-D498-4F9A-AFA5-745389BE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00F4-38EF-4915-9D68-6B6E4033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D79A-C3AD-4A71-85AF-8EC7A66B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45B3-4D81-402C-A7A7-334421A3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644D-77DA-4E49-AE08-571A60FE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99FA-04FF-46FD-A189-A48C274A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C51D-7B12-4FD8-80F4-FB196C9F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683F-F0BE-4B8D-8CCA-FE6FD36ED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505320"/>
            <a:ext cx="2819160" cy="25905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33920" y="3505320"/>
            <a:ext cx="2819160" cy="25905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762120"/>
            <a:ext cx="2819160" cy="25905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762120"/>
            <a:ext cx="2819160" cy="25905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6248520"/>
            <a:ext cx="2819160" cy="25905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248520"/>
            <a:ext cx="2819160" cy="25905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762120"/>
            <a:ext cx="27036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d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wo things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ere the main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tell three thing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election e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ne ….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wo things tha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an even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 the nam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41120" y="763560"/>
            <a:ext cx="2099520" cy="27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derst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s the main idea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what is meant by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ll 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the story ha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 that it do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at the author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what happened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meant by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characterize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ze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40760" y="3506760"/>
            <a:ext cx="221364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compare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_____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contrast…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tive is there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relationship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 and ________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vidence can you find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s the most exciting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theme of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deas justify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____ related to ___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556080"/>
            <a:ext cx="28018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xamples can you f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uppo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result if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what you know, how w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olve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questions would you ask if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what you know, construct 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a situation that occur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tory and tell what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______ similar to _______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classify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91960" y="6324480"/>
            <a:ext cx="24332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a new ending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rewrite the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______’s point of vie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predict will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ould you improve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hanges would you make to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le play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 a new sce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ould you change the plo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 a model that tells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nferences can you ma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6324480"/>
            <a:ext cx="297180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ify ____’s  actions in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agree with _____? Why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your opinion of ___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feel that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uld you recommend ____? Why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hoice would you have m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were in ____ si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uld it be better if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as it better that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like b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3480" y="304920"/>
            <a:ext cx="45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vised Bloom’s Question St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724B-A0A9-4901-AE12-54FE04F3B2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23:32:14Z</dcterms:created>
  <dc:creator>Lisa Carter Waring</dc:creator>
  <dc:description/>
  <dc:language>en-US</dc:language>
  <cp:lastModifiedBy>Lisa Carter Waring</cp:lastModifiedBy>
  <dcterms:modified xsi:type="dcterms:W3CDTF">2009-06-10T23:32:49Z</dcterms:modified>
  <cp:revision>1</cp:revision>
  <dc:subject/>
  <dc:title>Slide 1</dc:title>
</cp:coreProperties>
</file>